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4111-9B81-4CE8-A5BE-2D669102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A12A-C614-412C-B309-D21D68D6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4B4-5EB5-46B5-BFDE-81D72BFC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2119-853A-4553-94C7-133648EB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48F8-501D-467C-85D6-574417E1D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0680-ACFD-4D25-B3EA-9EA127EC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1143-D1AE-4546-9401-7891B911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8C51-D99D-4E67-A13C-C5F8C88F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4E35-E329-4B21-8E9B-F103B37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CC40-54BC-4FEE-B774-7C1EDA10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8610-A95B-48AA-BFE3-6F63C995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ABD-558E-4F8F-8DD9-9593AA92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C94B-66ED-48BD-AEEB-2DC92D98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F198-E8ED-45E9-B564-AC61D211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192F-22AD-4609-96DD-5B4B2D35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7D3-174C-4A09-BDCA-72B2281B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1FCC-0288-4CC9-AB9C-D8D23219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90A7-64BD-40CC-A9D5-EADBABD9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C6E-F511-4943-99EA-7F771502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554D-DD16-415A-A7C0-FA53FE8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B48-42F1-45A3-9CE5-B6E5A58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2664-E22E-4E14-B12E-D4CA6252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9516-7C84-477A-B1E1-0B92EE0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C50-7604-4041-8FAA-DE4A760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3560-EC03-49D1-A3DD-C7FAC1C8996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2725-C41F-44A2-A28C-6B624B19513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ewey Decimal Classification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D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60199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0199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cArthur Elementary Schoo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and of 10,00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y this MA curriculum framework to everyday lif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N.7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mpare and ord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gers (including negative integers), and positive fractions, mixed numbers,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cimal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and percents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pply this MA curriculum framework to everyday life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.N.6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Find and posi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tegers, fractions, mixed numbers,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cimal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oth positive and negative)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on the number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dd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re can you find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ne giant number lin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at MacArthur Elementary Schoo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Oh, one more question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620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uld you like to be a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helf helpe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onsor a shelf to keep in ord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helve some books from the return ca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e Ms. Kensle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8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9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2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001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02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31.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1.9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6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1.4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11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22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29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6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7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7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eater than?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gt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Less than?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116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597.22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297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629.6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72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910.695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o Cares, Anywa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a Super"/>
              </a:rPr>
              <a:t>You!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a Super"/>
              </a:rPr>
              <a:t>Why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ause . . 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owse </a:t>
            </a:r>
            <a:r>
              <a:rPr b="0" i="1" lang="en-US" sz="5400" spc="-1" strike="noStrike">
                <a:solidFill>
                  <a:srgbClr val="ff0000"/>
                </a:solidFill>
                <a:latin typeface="Comic Sans MS"/>
              </a:rPr>
              <a:t>with a foc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2819160"/>
            <a:ext cx="5562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uickly </a:t>
            </a:r>
            <a:r>
              <a:rPr b="0" i="1" lang="en-US" sz="4800" spc="-1" strike="noStrike">
                <a:solidFill>
                  <a:srgbClr val="ff0000"/>
                </a:solidFill>
                <a:latin typeface="Comic Sans MS"/>
              </a:rPr>
              <a:t>find one particular book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n a large collec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nowing this will help you: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63244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nd books etc. in </a:t>
            </a:r>
            <a:r>
              <a:rPr b="0" i="1" lang="en-US" sz="4800" spc="-1" strike="noStrike">
                <a:solidFill>
                  <a:srgbClr val="ff0000"/>
                </a:solidFill>
                <a:latin typeface="Comic Sans MS"/>
              </a:rPr>
              <a:t>any public library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in 135 countries (wow!)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05:57:13Z</dcterms:created>
  <dc:creator>Timothy Kenslea</dc:creator>
  <dc:description/>
  <dc:language>en-US</dc:language>
  <cp:lastModifiedBy>Timothy Kenslea</cp:lastModifiedBy>
  <dcterms:modified xsi:type="dcterms:W3CDTF">2008-04-09T22:49:27Z</dcterms:modified>
  <cp:revision>17</cp:revision>
  <dc:subject/>
  <dc:title>Dewey Decimal Classification</dc:title>
</cp:coreProperties>
</file>